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380-7287-4E43-AB1E-6BBA3F52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1D1-7709-4E7A-86A7-499FB9E2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D44BF-F929-49F2-814F-8BC83FA6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D4BD8-6747-4379-87E7-55B20897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3ECD5-0AF6-49DB-A6FC-7C17A4B7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4D261-5399-436B-A67D-58545F41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2259B-722E-47C0-8B16-7DCD19F0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E7E69-D60C-4B7F-84EB-E350861B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4E26A-08B1-46D8-A0E4-E082E85F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76BB3-7CB9-45E4-8614-92F5B970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F9B1C-2E65-482C-B8A1-0DFBE29F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0EEBD-4D08-4B66-9B00-9ECD355F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B11-1F6C-4F35-BF44-D8649708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78964-0EBE-42DC-AFDE-6A29EB09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187AC-FB1F-40FB-83C1-DE90C056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8ADE3-081F-4832-A730-88F55C0B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7548F-73AC-41CE-A2A2-A1E5E7D7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77055-4C82-4D11-BA6E-954BD8EF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0E814-0287-4E73-AA0C-01332D4D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4D3EB-4877-42D6-8ED0-08460E28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69D0B-5115-4EEA-B43D-09515D75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2E3D4-96F4-4DC5-B76E-E3279B3B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6FCD4-0964-4D91-8B9D-6AF64A53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ED5-3132-4286-9048-AF47EB34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F747C-FAC7-44DC-96A7-CA9C14DE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0DE27-C00E-4B23-8FF1-CE72D684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D6EF2-E96D-4EBC-B1DB-A16284FF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4D5CE-D13F-423B-81D2-29727ECC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377DA-C2E2-40BE-8E0C-96CE558C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6ED44-16EA-4113-A287-588CF410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F8D99-1B42-41A2-9564-B689D45A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F9C27-591D-4B18-9679-523B42D9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06D75-A041-4F92-9910-A49D394B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A2337-0CA4-415A-8588-85D3A97E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B1BA-3E51-4455-8E1C-FA0B8DE3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6B320-6FCC-4B47-A9AB-04D21D15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742A3-917C-46C9-8587-A49DAF43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40F0B-9FDE-440A-B242-14164EB2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67611-862C-4927-B689-6E7D2DC8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D13CB-562D-47E8-B839-370C7430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ADD8A-2BC6-431E-92BC-07A6307A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8981D-CFF8-4887-8FAE-6D48F301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9F258-621C-4141-8AD4-01C495AD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AED68-8AE1-485D-A5AC-978D580A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69BFE-D024-471C-89D7-1EBCBEBC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3CEF-AFC7-47AA-A0AF-9460FC3B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38387-288C-480E-991F-A1302183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9E3B0-1647-4F7D-A7CC-3744DA79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C3041-7A22-46F2-9C8E-DE854289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6B9C8-7DEA-4349-B8E6-C2C09BF5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5D12F-BA0C-4F52-9251-A78033D5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1A7B-5928-41CB-9201-707807E6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3219-930B-4389-8C21-540B96C3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4F2E-87BF-4DD3-B0D2-1B0B2194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658E-8B34-4302-BA73-E11634E3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D68A-3DDE-4F8F-9F6E-46DC6AE8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D45-A6CB-4174-94D7-21FA577B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733A-B9DF-4F70-AB43-7342FF6A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011F-317D-4BF5-8208-5B75E059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11DE-3C27-4321-A373-68288941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3E03-7378-43D8-B3C4-E91D9D2B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11D0-8277-4A09-9EFC-A8D81C61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FE33-9D86-4FCA-9EBF-03586DA8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95E4C-47E7-4690-928F-A0B080ED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41444-AAF3-4E5E-BB29-DB5AE423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E82B-8AF6-41CD-9EB8-39CEB449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FDCDC-5923-41D3-98F2-7CB311FE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94A-5D55-412A-977A-14823976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B2AD4-EC21-4DD9-911D-AE13632A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03A7-7ACD-4181-A08E-4DC11644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ED693-A61B-4C5E-A6A7-0CC47B9C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914E3-7278-40BE-9119-F76CEA5F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1BA35-4A14-4428-A03C-31934C96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448A-A03B-40B4-BB2E-5130CC67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763C1-9101-4D6E-8342-D7E477B2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D3644-55D1-44D0-A340-CB4AB80B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FA689-4EF8-4BCF-A127-9935C7AD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95617-C38C-445E-AB87-E466A5D5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FE3-6A3A-4F09-8368-66D1A2C0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DAAED-1D03-46AB-B0F3-8675727D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8E1F0-A34F-4C4E-ACE4-77D638B4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A1926-D1EA-452D-8BC3-7D046BFE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1FB6B-F933-42AC-AE7A-DBA6440F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FDD51-56EE-4A5E-8613-4D33A049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127A5-2155-4D7B-8F45-9AE31245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3F725-48FC-4897-9BC9-D9677411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3BFD1-C0B7-4C5A-A81E-B4871110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9E66-F554-4C60-BEDD-F89A8357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084EF-D337-4BAF-BC5C-1167418F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3B4-24DB-42EA-8B09-3A4E2BE0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F2F74-4B9C-4D3F-9A56-0B000353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66F8B-5B65-44AB-B559-8C4FFEDE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75A03-5EC0-4A86-9805-D1B7900E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28F73-12C7-4512-A61C-1ACDDA81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48C55-BA78-45B0-AC6E-FB493087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02AA0-86D7-4376-AA22-559769D8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5C56B-2E98-4437-818F-03694545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CCF61-313A-43BC-ADED-92903086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C4D78-F522-4D2F-8C30-CEEE9F93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F92B1-43B4-4C46-BC0E-FA3AB915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1C7-A440-47B2-B40B-E66F9990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3595F-B3D9-4819-B097-93741E41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35A0D-CA2A-4E5B-9888-A998CB45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177C2-0C1D-416B-A84D-F047093E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A2AF2-C789-4B27-86FA-0F7DD6B1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D4F2F-6B36-442C-AD87-1D2018B5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3DAC7-4ED7-4062-9A9D-7976F78F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79920-9789-43D5-86C3-97447ADF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9D9A5-5BD7-4190-991C-447204AE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B8EC2-AB99-40F6-81F1-ADC876E5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21197-6C25-451F-A9A7-B35D3C0E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4C3-F0C9-4DE8-BAF5-ADDFE945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6CF45-91F9-40C3-ABDA-12A18121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055E5-5857-49A8-8D92-00294A2F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2B2CB-5DDC-4E8F-A682-0F96D230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435AD-F38B-4793-B13E-31997F47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83A3E-4F2C-44EF-A37E-971D8F65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78F92-2202-4F9B-958C-38684E45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0D2AA-5505-45B4-8284-0871FF07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034AC-271D-4825-A8FD-098F759D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2A3F2-E0FB-4F10-BB27-CC348260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91A75-26B3-451A-894E-6488E201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A4A-B1D8-43F9-8259-B16A8154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58169-3EA2-4698-A885-4C8621AA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B6826-26F7-40C3-829A-29C51B7E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99246-A4D6-4CF4-A028-2407636B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648A6-6EEC-4AA2-8CE8-E2E63D61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67238-7648-4102-9960-EB4CDFE4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2B3FD-5D1A-4042-BE1B-F32192AD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63F3A-AABB-4C5C-9540-3C565ABA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40783-B85B-40FC-AF8E-5E75665D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E76E9-85B6-4F10-B7B6-2AA739F1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567C0-B1FD-43DC-A31B-52A67334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C77-3CAC-4380-B757-ED943675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51A40-F0EA-413C-9FA5-573E3632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69886-A6A7-4C6D-90A5-390378C7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F027E-DDDA-4FE1-96F0-8F759E03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BDB55-3AB4-47D7-9C7F-5DDA8A6A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EDEA9-9E79-41C2-B1CD-8B91AD0F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2B6DD-90C4-470D-A23A-8B2776C4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C0966-80B5-42C0-8680-9D6629F0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05E70-DBC6-47A5-BEDF-9B1FD03F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F849F-11A4-4302-A0AE-B820DD2D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69083-AE12-489C-B096-AAA814CD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DC6E-3E20-4CC9-8FBC-F604C2A64EB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0676-1E3E-4D0A-A717-7E0B8C213EF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EECD-9889-43E1-A42F-27CDCA19F3A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0F67-3A6A-4B3E-942B-6A39CAC8373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B2AA-FC3D-4A9D-AF4C-150AB4F99CC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A707-381B-47AC-833C-637439FEFDB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F1A7-D62E-4D3E-8E28-EC9250141A3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7FCC-EE88-488B-98AB-349708AE7FC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3EF8-D9AA-4914-A995-CA1D45F8C50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A130-A7A7-4993-AF7A-808FFAB4A16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052E-16C4-4564-AA32-015C086116F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2E51-760E-42EF-A5BC-016982AE10C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00120" y="1642680"/>
            <a:ext cx="6500880" cy="170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ahoma"/>
              </a:rPr>
              <a:t>Подчинительныесоюзы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85920" y="6667560"/>
            <a:ext cx="621504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85560" y="642960"/>
            <a:ext cx="65530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28400" y="1356840"/>
            <a:ext cx="8391240" cy="509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Вставьте подходящие по смыслу сою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пределите их вид по строению и разряд по значе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Редеет мгла ненастной ночи, … близкий день уж настает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Не может волк … охнуть, … вздохнуть. (И.Крыл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ал золотник … дорог. (Пословиц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Мы не надеялись никогда более встретиться, … встретились. (М.Лермонт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8527"/>
                </a:solidFill>
                <a:latin typeface="Verdana"/>
              </a:rPr>
              <a:t>Твой конь не боится опасных трудов, он, чуя господскую волю, … смирно стоит под стрелами врагов, … мчится по бранному полю. (А.Пушки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Овал 3"/>
          <p:cNvSpPr/>
          <p:nvPr/>
        </p:nvSpPr>
        <p:spPr>
          <a:xfrm>
            <a:off x="5357880" y="200016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4"/>
          <p:cNvSpPr/>
          <p:nvPr/>
        </p:nvSpPr>
        <p:spPr>
          <a:xfrm>
            <a:off x="314316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5"/>
          <p:cNvSpPr/>
          <p:nvPr/>
        </p:nvSpPr>
        <p:spPr>
          <a:xfrm>
            <a:off x="4714920" y="278604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6"/>
          <p:cNvSpPr/>
          <p:nvPr/>
        </p:nvSpPr>
        <p:spPr>
          <a:xfrm>
            <a:off x="3000240" y="3571920"/>
            <a:ext cx="64296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7"/>
          <p:cNvSpPr/>
          <p:nvPr/>
        </p:nvSpPr>
        <p:spPr>
          <a:xfrm>
            <a:off x="7858080" y="4000680"/>
            <a:ext cx="64296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8"/>
          <p:cNvSpPr/>
          <p:nvPr/>
        </p:nvSpPr>
        <p:spPr>
          <a:xfrm>
            <a:off x="3714840" y="5286240"/>
            <a:ext cx="55728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9"/>
          <p:cNvSpPr/>
          <p:nvPr/>
        </p:nvSpPr>
        <p:spPr>
          <a:xfrm>
            <a:off x="2071800" y="5643720"/>
            <a:ext cx="55728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be3"/>
                </a:solidFill>
                <a:latin typeface="Verdana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6553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4221"/>
                </a:solidFill>
                <a:latin typeface="Verdana"/>
              </a:rPr>
              <a:t>Понаблюдаем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57120" y="1500120"/>
            <a:ext cx="8462880" cy="495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очему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до вечера добраться до нужного пункт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с какой целью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отправились в поход рано утром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. 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когда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ы бы отправились в поход рано утром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была солнечная погода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. (</a:t>
            </a:r>
            <a:r>
              <a:rPr b="1" i="1" lang="ru-RU" sz="2400" spc="-1" strike="noStrike">
                <a:solidFill>
                  <a:srgbClr val="274221"/>
                </a:solidFill>
                <a:latin typeface="Verdana"/>
              </a:rPr>
              <a:t>при каком условии?</a:t>
            </a:r>
            <a:r>
              <a:rPr b="1" lang="ru-RU" sz="2400" spc="-1" strike="noStrike">
                <a:solidFill>
                  <a:srgbClr val="274221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Овал 3"/>
          <p:cNvSpPr/>
          <p:nvPr/>
        </p:nvSpPr>
        <p:spPr>
          <a:xfrm>
            <a:off x="6715080" y="128592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4"/>
          <p:cNvSpPr/>
          <p:nvPr/>
        </p:nvSpPr>
        <p:spPr>
          <a:xfrm>
            <a:off x="6715080" y="2214720"/>
            <a:ext cx="185760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5"/>
          <p:cNvSpPr/>
          <p:nvPr/>
        </p:nvSpPr>
        <p:spPr>
          <a:xfrm>
            <a:off x="6643800" y="3357720"/>
            <a:ext cx="1857240" cy="556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6"/>
          <p:cNvSpPr/>
          <p:nvPr/>
        </p:nvSpPr>
        <p:spPr>
          <a:xfrm>
            <a:off x="7072200" y="4214880"/>
            <a:ext cx="1857600" cy="55728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8527"/>
                </a:solidFill>
                <a:latin typeface="Verdana"/>
              </a:rPr>
              <a:t>если 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6929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Составим таблиц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3" name="Прямоугольник 4"/>
          <p:cNvSpPr/>
          <p:nvPr/>
        </p:nvSpPr>
        <p:spPr>
          <a:xfrm>
            <a:off x="2428920" y="1428840"/>
            <a:ext cx="3643200" cy="92844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7d6"/>
                </a:solidFill>
                <a:latin typeface="Verdana"/>
              </a:rPr>
              <a:t>Подчинительные сою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5"/>
          <p:cNvSpPr/>
          <p:nvPr/>
        </p:nvSpPr>
        <p:spPr>
          <a:xfrm>
            <a:off x="357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Прич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От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Ввиду того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тому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6"/>
          <p:cNvSpPr/>
          <p:nvPr/>
        </p:nvSpPr>
        <p:spPr>
          <a:xfrm>
            <a:off x="514368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Изъяс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7"/>
          <p:cNvSpPr/>
          <p:nvPr/>
        </p:nvSpPr>
        <p:spPr>
          <a:xfrm>
            <a:off x="1285920" y="5000760"/>
            <a:ext cx="3000240" cy="15714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Срав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ло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буд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Т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8"/>
          <p:cNvSpPr/>
          <p:nvPr/>
        </p:nvSpPr>
        <p:spPr>
          <a:xfrm>
            <a:off x="2643120" y="2786040"/>
            <a:ext cx="185760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Це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Для того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С тем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9"/>
          <p:cNvSpPr/>
          <p:nvPr/>
        </p:nvSpPr>
        <p:spPr>
          <a:xfrm>
            <a:off x="485784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д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шь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П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0"/>
          <p:cNvSpPr/>
          <p:nvPr/>
        </p:nvSpPr>
        <p:spPr>
          <a:xfrm>
            <a:off x="7000920" y="2786040"/>
            <a:ext cx="1857240" cy="2071800"/>
          </a:xfrm>
          <a:prstGeom prst="rect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47d6"/>
                </a:solidFill>
                <a:uFillTx/>
                <a:latin typeface="Verdana"/>
              </a:rPr>
              <a:t>Усл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Как ск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7d6"/>
                </a:solidFill>
                <a:latin typeface="Verdana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Прямая со стрелкой 12"/>
          <p:cNvCxnSpPr>
            <a:stCxn id="553" idx="2"/>
          </p:cNvCxnSpPr>
          <p:nvPr/>
        </p:nvCxnSpPr>
        <p:spPr>
          <a:xfrm flipH="1">
            <a:off x="1285200" y="2356920"/>
            <a:ext cx="2964600" cy="35820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1" name="Прямая со стрелкой 14"/>
          <p:cNvCxnSpPr>
            <a:stCxn id="553" idx="2"/>
            <a:endCxn id="557" idx="0"/>
          </p:cNvCxnSpPr>
          <p:nvPr/>
        </p:nvCxnSpPr>
        <p:spPr>
          <a:xfrm flipH="1">
            <a:off x="3571200" y="2356920"/>
            <a:ext cx="6786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2" name="Прямая со стрелкой 16"/>
          <p:cNvCxnSpPr>
            <a:stCxn id="553" idx="2"/>
            <a:endCxn id="558" idx="0"/>
          </p:cNvCxnSpPr>
          <p:nvPr/>
        </p:nvCxnSpPr>
        <p:spPr>
          <a:xfrm>
            <a:off x="4249800" y="2356920"/>
            <a:ext cx="153720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63" name="Прямая со стрелкой 18"/>
          <p:cNvCxnSpPr>
            <a:stCxn id="553" idx="2"/>
            <a:endCxn id="559" idx="0"/>
          </p:cNvCxnSpPr>
          <p:nvPr/>
        </p:nvCxnSpPr>
        <p:spPr>
          <a:xfrm>
            <a:off x="4249800" y="2356920"/>
            <a:ext cx="3680640" cy="42948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14280" y="428400"/>
            <a:ext cx="65534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Творческо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57120" y="1428840"/>
            <a:ext cx="8462880" cy="502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пишите предложение, расставляя знаки препинания, и определите вид союз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Мать если бы она осталась с сыном чувствовала бы себя спокой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Какой-то с молоду Скворец так петь щегленком научился как будто бы щегленком сам родил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Если мы будем читать слишком быстро или слишком медленно мы ничего не пойм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6553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ловарь трудных сл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вет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о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Сем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а</a:t>
            </a:r>
            <a:r>
              <a:rPr b="1" lang="ru-RU" sz="4800" spc="-1" strike="noStrike">
                <a:solidFill>
                  <a:srgbClr val="0047d6"/>
                </a:solidFill>
                <a:latin typeface="Verdana"/>
              </a:rPr>
              <a:t>фор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85840" y="1785960"/>
            <a:ext cx="853416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 каком предложении нет предлог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Плохо, когда не с кем поговор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ом напротив построили лет десять наза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н продолжал путь, несмотря на устал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Остановка находится около школ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57120" y="1785960"/>
            <a:ext cx="8462880" cy="46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Укажите пример раздельного написания предло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Звонил (в) продолжение получа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вигаться (на) встречу ветр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Узнали (на) счет контроль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Выступить (в) место ме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7280" y="356760"/>
            <a:ext cx="6553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Задания в рамках ЕГ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57120" y="1857240"/>
            <a:ext cx="8462880" cy="4594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Из данного предложения выпишите производный предло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Verdana"/>
              </a:rPr>
              <a:t>Вдоль по улице метелица метет, за метелицей мой миленький идет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9:12:41Z</dcterms:created>
  <dc:creator>MaTeMaTiKa</dc:creator>
  <dc:description/>
  <dc:language>en-US</dc:language>
  <cp:lastModifiedBy>Windows 7</cp:lastModifiedBy>
  <dcterms:modified xsi:type="dcterms:W3CDTF">2013-05-07T01:46:07Z</dcterms:modified>
  <cp:revision>10</cp:revision>
  <dc:subject/>
  <dc:title>Name of presentation</dc:title>
</cp:coreProperties>
</file>